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9.wmf" ContentType="image/x-wmf"/>
  <Override PartName="/ppt/media/image1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B90D-3982-427C-8D22-3A82880C0B6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758F-8BA7-42CC-9FA2-4638DA50995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5A69-CEE5-4FC3-8BE5-816FDAB0812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128E-F293-493A-87A2-821DD4599AA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15B9-6395-43B9-8AA0-03905836388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5E34-0AAD-4503-85BB-08368F03C23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CD2-0E91-428D-8A6C-2FFC3FF5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990-9DDE-422E-B017-12217AE7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C758-F74C-40EE-8C73-DEF824B1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9C0-3C5F-4838-8B79-AF6A48A0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45AB-761F-4850-855A-A76CF5A0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C456-0C0A-4053-9131-306FA36A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651C-094D-4F47-B4BD-E8F10E54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02EA-9102-4171-BB61-4402CA3B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E1B5-63C1-42A7-B5F1-335D0C51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818A-F481-4124-9D35-214C2BD0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622A-E8D8-4688-B4FA-A5EE57E0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4C3-139D-47EB-B1DB-330CFC30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5356-DA60-44AA-9AA6-CFDE9342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06F4-34B0-4619-AA5B-B04007B8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2F6E-1133-468B-BECF-946119E4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FD37-7925-41AD-B9F1-985D9D48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B86C-C079-483F-862B-A8E4A1E1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5D18-C33C-4ED5-937C-C47702D5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9D001-D98E-48AA-A471-0F7207FB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69F06-2EE2-4AFA-A3B6-DA12B6F1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4919B-4003-4821-A6D4-B5B2DA35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91D99-F3DD-4E0E-A868-30551B1B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77F-DD0B-4DCB-8017-C75B2F28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0743-618F-45FC-9A93-2B64C449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6721C-6FE4-4899-918B-BBCD35A7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27F3F-26E0-4DF3-9A01-B8E52E9C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D7208-E8F4-41BB-92A5-3B975198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E632-3F14-48CC-A3DC-B7845B04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AC43-232C-47D3-8038-CF83BD21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0C185-55DF-4CEF-93E2-40989A0E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E8D9F-D27F-4EC1-BC97-3DA858D2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D2156-7C7C-4D33-BB57-C8C3B825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7E174-D537-4600-95A0-1291360C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3D1-271D-499E-AA40-881B3BAF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2FF64-0360-4FA5-886F-274E7E94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A908-108F-45FB-BEF0-0B6E69F5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FD553-17E8-4967-92CA-004F7E03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77A0F-6F48-4725-A3AE-811AC18C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8843-4235-430B-9F12-9464E3B0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F5EC2-FFD2-43AF-9B77-E5647980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65335-9884-44C7-B3C3-7272B36E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70AD-2B59-4905-BD6B-86E2FDBE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465C2-A72C-4BA7-A45A-C90C4998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C2F-78FB-4235-B565-CFE560C1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A85-D119-4CC9-B600-CD49F0C8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37C-3B3B-4D67-8A1A-859380DC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EC5-A7E2-4300-A2B0-4A66D9CF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1EF-25AF-49D8-B29E-724A87EB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71D5-BA77-40DF-9E8D-E8462755BE5C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1E8B-F7EE-4583-8C56-7E9702B6FFE2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21A4-F2FC-4C5D-999E-0281239F1553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4A32-FB7D-4BB6-9EA5-31A971BCB347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1A52-1BAC-4EFB-8E25-8535F7691BCC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8755-3031-4E72-B29A-676295D15E91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D704-0C37-4B0E-A174-86E9A572B2EB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80FB-8293-4921-97BE-8437104BFAD1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Extras Q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168840" indent="-168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1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 cars are travelling on intersecting roads.  The first car is travelling northeast at 35 km/h.  The second car begins 7 km north of the first, and it is travelling east at 25 km/h.  Assuming that these cars will continue at this rate, will they collide?  Assign vector equations to each line and assume that the first car begins at the origi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ar 1 start (0.0)    Car 2 start (0,7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ath of car 1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ath of Car 2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ollide if we can make s=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6" name="Object 31"/>
          <p:cNvGraphicFramePr/>
          <p:nvPr/>
        </p:nvGraphicFramePr>
        <p:xfrm>
          <a:off x="2556000" y="2276640"/>
          <a:ext cx="2232000" cy="101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276640"/>
                    <a:ext cx="223200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32"/>
          <p:cNvGraphicFramePr/>
          <p:nvPr/>
        </p:nvGraphicFramePr>
        <p:xfrm>
          <a:off x="2700360" y="3716280"/>
          <a:ext cx="266364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716280"/>
                    <a:ext cx="26636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olving for x and y the two equations will b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olving giv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ince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 cars do NOT collid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2" name="Object 2"/>
          <p:cNvGraphicFramePr/>
          <p:nvPr/>
        </p:nvGraphicFramePr>
        <p:xfrm>
          <a:off x="1069920" y="2060640"/>
          <a:ext cx="1892520" cy="101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2060640"/>
                    <a:ext cx="189252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"/>
          <p:cNvGraphicFramePr/>
          <p:nvPr/>
        </p:nvGraphicFramePr>
        <p:xfrm>
          <a:off x="1116000" y="3429000"/>
          <a:ext cx="163188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3429000"/>
                    <a:ext cx="163188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4"/>
          <p:cNvGraphicFramePr/>
          <p:nvPr/>
        </p:nvGraphicFramePr>
        <p:xfrm>
          <a:off x="2484360" y="4292640"/>
          <a:ext cx="311148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4292640"/>
                    <a:ext cx="31114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5"/>
          <p:cNvGraphicFramePr/>
          <p:nvPr/>
        </p:nvGraphicFramePr>
        <p:xfrm>
          <a:off x="1258920" y="5516640"/>
          <a:ext cx="86508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5516640"/>
                    <a:ext cx="865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Extras Q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e the line ,                         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e th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 ,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d the intersection of these two lines, and then find the area of the triangle whose vertices are the intersection point,  s =0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1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 t=3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2" name="Object 2"/>
          <p:cNvGraphicFramePr/>
          <p:nvPr/>
        </p:nvGraphicFramePr>
        <p:xfrm>
          <a:off x="3492360" y="1989000"/>
          <a:ext cx="209412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989000"/>
                    <a:ext cx="20941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3"/>
          <p:cNvGraphicFramePr/>
          <p:nvPr/>
        </p:nvGraphicFramePr>
        <p:xfrm>
          <a:off x="1476360" y="2565360"/>
          <a:ext cx="27352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2565360"/>
                    <a:ext cx="2735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Extras Q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48428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First find the point of intersection which you should find is P(-1,6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other points of the triangle (when s=0 and t=3) are Q(2,9) and R(0,8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area of the triangle will be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3132000" y="4508640"/>
          <a:ext cx="1584360" cy="17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4508640"/>
                    <a:ext cx="1584360" cy="17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7:07:38Z</dcterms:created>
  <dc:creator>sandy</dc:creator>
  <dc:description/>
  <dc:language>en-US</dc:language>
  <cp:lastModifiedBy>sandy</cp:lastModifiedBy>
  <dcterms:modified xsi:type="dcterms:W3CDTF">2010-12-30T17:34:26Z</dcterms:modified>
  <cp:revision>327</cp:revision>
  <dc:subject/>
  <dc:title>2.2 Derivatives of Polynomial Functions</dc:title>
</cp:coreProperties>
</file>